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992D-7C34-4600-A4F4-EB231D34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172-416C-4671-9EE6-2081013D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0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2004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0025-6995-466D-9151-3BBBD537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5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30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5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930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E1DA-1DC7-4FD2-8E42-B8F5AD27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8829-0C06-4BDC-AC2C-E3E744FA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F663-B03B-4351-AC39-7667484C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21E5-0C12-47E0-A554-7C5CA7A6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004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8A41-12DA-4B98-BE9A-60619F7F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7367-BB05-4B63-96C7-38044581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8080" y="255600"/>
            <a:ext cx="77774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F425-B9A2-4BF6-A6A4-633BD6F0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04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591C-65B4-4C88-A713-A44A2F3F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DDA6-C099-47E4-8998-646A4DF5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0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2004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EC1B-0D6F-4CFD-8A25-96746D8E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E49E-0250-4855-BB78-3F78DF88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9C00-61B5-463C-B4E0-6A8E4324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0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2004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C90E-78B9-46F9-8402-11BBFEBB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65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30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65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30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4AA8-A677-4887-99C0-458B06DA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7FCB-C4F2-4C26-90F5-676B7AEA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04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6EED-864C-43CF-9F71-A73558BC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4BC-AF30-4EF0-B58C-DD47972D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255600"/>
            <a:ext cx="77774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599-8BC2-4D18-AA14-CA758B3A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004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A7FD-9149-42B0-B8F4-EBFF3CA5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00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2004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8CD8-7FAB-4A36-9166-37216870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00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A0A-B068-4A22-8498-D161594B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399960" y="209520"/>
            <a:ext cx="1524240" cy="1523880"/>
            <a:chOff x="399960" y="209520"/>
            <a:chExt cx="1524240" cy="1523880"/>
          </a:xfrm>
        </p:grpSpPr>
        <p:sp>
          <p:nvSpPr>
            <p:cNvPr id="1" name=""/>
            <p:cNvSpPr txBox="1"/>
            <p:nvPr/>
          </p:nvSpPr>
          <p:spPr>
            <a:xfrm>
              <a:off x="399960" y="209520"/>
              <a:ext cx="1524240" cy="15238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1161360" y="209520"/>
              <a:ext cx="762480" cy="762480"/>
            </a:xfrm>
            <a:prstGeom prst="rect">
              <a:avLst/>
            </a:prstGeom>
            <a:solidFill>
              <a:srgbClr val="00cccc">
                <a:alpha val="50000"/>
              </a:srgbClr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 txBox="1"/>
            <p:nvPr/>
          </p:nvSpPr>
          <p:spPr>
            <a:xfrm>
              <a:off x="399960" y="209520"/>
              <a:ext cx="762480" cy="762480"/>
            </a:xfrm>
            <a:prstGeom prst="rect">
              <a:avLst/>
            </a:prstGeom>
            <a:solidFill>
              <a:srgbClr val="00cccc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 txBox="1"/>
            <p:nvPr/>
          </p:nvSpPr>
          <p:spPr>
            <a:xfrm>
              <a:off x="1161360" y="970560"/>
              <a:ext cx="762480" cy="762480"/>
            </a:xfrm>
            <a:prstGeom prst="rect">
              <a:avLst/>
            </a:prstGeom>
            <a:solidFill>
              <a:srgbClr val="006666">
                <a:alpha val="50000"/>
              </a:srgbClr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>
              <a:off x="399960" y="970560"/>
              <a:ext cx="762480" cy="7624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838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27636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E3557A-5780-44C4-9BFA-352B2028F7A4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"/>
          <p:cNvGrpSpPr/>
          <p:nvPr/>
        </p:nvGrpSpPr>
        <p:grpSpPr>
          <a:xfrm>
            <a:off x="0" y="1866960"/>
            <a:ext cx="2019240" cy="2019240"/>
            <a:chOff x="0" y="1866960"/>
            <a:chExt cx="2019240" cy="2019240"/>
          </a:xfrm>
        </p:grpSpPr>
        <p:sp>
          <p:nvSpPr>
            <p:cNvPr id="48" name=""/>
            <p:cNvSpPr txBox="1"/>
            <p:nvPr/>
          </p:nvSpPr>
          <p:spPr>
            <a:xfrm>
              <a:off x="0" y="1866960"/>
              <a:ext cx="2019240" cy="2019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1008720" y="1866960"/>
              <a:ext cx="1010160" cy="1010160"/>
            </a:xfrm>
            <a:prstGeom prst="rect">
              <a:avLst/>
            </a:prstGeom>
            <a:solidFill>
              <a:srgbClr val="00cccc">
                <a:alpha val="50000"/>
              </a:srgbClr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0" y="1866960"/>
              <a:ext cx="1010160" cy="1010160"/>
            </a:xfrm>
            <a:prstGeom prst="rect">
              <a:avLst/>
            </a:prstGeom>
            <a:solidFill>
              <a:srgbClr val="00cccc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1008720" y="2875680"/>
              <a:ext cx="1010160" cy="1010160"/>
            </a:xfrm>
            <a:prstGeom prst="rect">
              <a:avLst/>
            </a:prstGeom>
            <a:solidFill>
              <a:srgbClr val="006666">
                <a:alpha val="50000"/>
              </a:srgbClr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0" y="2875680"/>
              <a:ext cx="1010160" cy="10101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2141280"/>
            <a:ext cx="77706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5C54C9-93E3-4EA3-BFFC-6A836BE2A66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Зона субтропиков 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4929120" y="3929040"/>
            <a:ext cx="378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и: студентки 2 курса, группы «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ециальность 44.02.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хтарова Зенфира и Нураева Земф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Животный мир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859280" y="1619280"/>
            <a:ext cx="4140360" cy="3959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5580000" y="558000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сной ко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360360" y="1619280"/>
            <a:ext cx="4319640" cy="3959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1268280" y="5541840"/>
            <a:ext cx="19717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су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3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" dur="3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993600" y="4859280"/>
            <a:ext cx="81504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тицы: фазан, беркут, чай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360360" y="1979640"/>
            <a:ext cx="4319640" cy="3419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1800360" y="539640"/>
            <a:ext cx="7740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секом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39640" y="5362560"/>
            <a:ext cx="39085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ужелица кавказ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89840" y="5362560"/>
            <a:ext cx="1730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гомо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5219640" y="1979640"/>
            <a:ext cx="378000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60360" y="17928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</a:rPr>
              <a:t>Птицы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360360" y="1619280"/>
            <a:ext cx="4140360" cy="3600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885960" y="4859280"/>
            <a:ext cx="27144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павли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4680000" y="1619280"/>
            <a:ext cx="4319640" cy="3600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5924520" y="5040360"/>
            <a:ext cx="2174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фаза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              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Дельфин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008000" y="1800360"/>
            <a:ext cx="7272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1480" y="5140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Почвы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979640" y="1778040"/>
            <a:ext cx="5580000" cy="39830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2417760" y="5580000"/>
            <a:ext cx="4062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каштанов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1480" y="184320"/>
            <a:ext cx="7778880" cy="14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Полезные ископаемые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673200" y="1619280"/>
            <a:ext cx="3467160" cy="270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5400720" y="1357200"/>
            <a:ext cx="3193920" cy="2962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3"/>
          <a:stretch/>
        </p:blipFill>
        <p:spPr>
          <a:xfrm>
            <a:off x="2879640" y="4500720"/>
            <a:ext cx="4500720" cy="19792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74680" y="4282920"/>
            <a:ext cx="4226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66"/>
                </a:solidFill>
                <a:latin typeface="Times New Roman"/>
              </a:rPr>
              <a:t>Кварцевый пес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728880" y="6459480"/>
            <a:ext cx="203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66"/>
                </a:solidFill>
                <a:latin typeface="Times New Roman"/>
              </a:rPr>
              <a:t>Железная 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7508880" y="4281480"/>
            <a:ext cx="203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66"/>
                </a:solidFill>
                <a:latin typeface="Times New Roman"/>
              </a:rPr>
              <a:t>известня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Человек у моря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щивание ценных культур: чая, лимона, мандарина, винограда, граната и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рноморское побережье Кавказа как курортная зо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ыболовство, лов крабов, кревет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едение мидий ( в специальных бассейнах с чистой водой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ование дикорастущих растений субтропиков человеком( древесина, лекарственное сырьё, строительный материал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Географическое положение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79280" y="1440000"/>
            <a:ext cx="7740360" cy="16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66"/>
              </a:buClr>
              <a:buSzPct val="7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она субтропиков в России находится на побережье Черного моря (от Туапсе до границы с Абхазией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440000" y="2340000"/>
            <a:ext cx="701964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          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Климат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7960" y="1619280"/>
            <a:ext cx="435312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Климат морской, много осадко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Зима короткая и тёпл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140360" y="1440000"/>
            <a:ext cx="4859280" cy="52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Растительный мир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68320" y="1825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66"/>
              </a:buClr>
              <a:buSzPct val="7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ревесные породы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60360" y="2519280"/>
            <a:ext cx="3959280" cy="3060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539640" y="5580000"/>
            <a:ext cx="324036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ук восточ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4680000" y="2519280"/>
            <a:ext cx="3975120" cy="31464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5580000" y="5580000"/>
            <a:ext cx="28796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рецкий оре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3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3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1120" y="-179280"/>
            <a:ext cx="7418520" cy="23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Декоративные растения: 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60360" y="1876320"/>
            <a:ext cx="3959280" cy="31640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835200" y="5040360"/>
            <a:ext cx="2765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ль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4680000" y="1906560"/>
            <a:ext cx="3965400" cy="31338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5334120" y="5040360"/>
            <a:ext cx="2765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гно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360360" y="1979640"/>
            <a:ext cx="4140360" cy="3419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1089000" y="5430960"/>
            <a:ext cx="324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вкалип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4859280" y="1962000"/>
            <a:ext cx="4103640" cy="3436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5040360" y="5400720"/>
            <a:ext cx="377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ация серебрист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00000" y="360360"/>
            <a:ext cx="7778520" cy="14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Крупные кустарники 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539640" y="1924200"/>
            <a:ext cx="4140360" cy="3474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1079640" y="5145120"/>
            <a:ext cx="270036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самши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5400720" y="1800360"/>
            <a:ext cx="3446280" cy="3779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5649840" y="5356080"/>
            <a:ext cx="31701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лавровиш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        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Эвкалипт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851280" y="1628640"/>
            <a:ext cx="4753080" cy="48974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250920" y="1844640"/>
            <a:ext cx="3168720" cy="475308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19120" y="2082960"/>
            <a:ext cx="2684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ное растение. Из его прочной древесины делают крепёжные сваи. Сучки и ветки перерабатывают в бумагу. Из листьев извлекают эфирное масло, которое используют в медицине и парфюмерии, а из коры- дубильные вещества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            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Самшит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7416720" cy="3816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384200" y="5899320"/>
            <a:ext cx="72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АЮТ МУЗЫКАЛЬНЫЕ ИНСТРУМЕНТЫ,ТРОСТИ,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КАТУЛКИ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3:00:24Z</dcterms:created>
  <dc:creator>PC00</dc:creator>
  <dc:description/>
  <dc:language>en-US</dc:language>
  <cp:lastModifiedBy>123</cp:lastModifiedBy>
  <dcterms:modified xsi:type="dcterms:W3CDTF">2017-05-10T12:04:16Z</dcterms:modified>
  <cp:revision>19</cp:revision>
  <dc:subject/>
  <dc:title>           Зона субтропиков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